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DF36-8E94-42E2-BBE2-206B7462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E072-9F48-4B72-8767-2A4959C7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8A73-73E0-45BB-8263-5282320B4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03D-AD88-48B4-8E32-A012ABFF6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C9D-6C7B-4F6D-9366-A335315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C324-03D2-41F6-B086-49550B3E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5A0F-58A5-4E84-88D1-EB4EF87A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433-C657-4086-B972-FCC5F3770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3580-466D-4530-952B-C062B3CC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2B02-395C-4EEB-B42B-2622CBF2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7BA4-F8E5-4CCC-BF3A-6D43BA55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2B78-DD6B-44F8-A146-E92CA2CD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EF2D-109E-4505-A6A1-20CCFE3C3608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77480" y="5964120"/>
            <a:ext cx="258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ioneers of Science &amp; Technolog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707160" y="6019920"/>
            <a:ext cx="218124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88920" y="4038480"/>
            <a:ext cx="8974080" cy="1862280"/>
          </a:xfrm>
          <a:prstGeom prst="rect">
            <a:avLst/>
          </a:prstGeom>
          <a:solidFill>
            <a:srgbClr val="2f4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5661000"/>
            <a:ext cx="8974080" cy="241200"/>
          </a:xfrm>
          <a:prstGeom prst="rect">
            <a:avLst/>
          </a:prstGeom>
          <a:solidFill>
            <a:srgbClr val="427a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88920" y="4354560"/>
            <a:ext cx="8974080" cy="129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07000" y="4527720"/>
            <a:ext cx="1063440" cy="9792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141880" y="4729320"/>
            <a:ext cx="623880" cy="57456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037200" y="4527720"/>
            <a:ext cx="1063800" cy="9792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7153200" y="4527720"/>
            <a:ext cx="1063800" cy="9792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lcome to Imhotep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Action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238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Weak Poin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557360"/>
            <a:ext cx="7705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Rendering Speed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emory Problem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Lazy GUI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ript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Animation Suppor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mainfrm"/>
          <p:cNvSpPr/>
          <p:nvPr/>
        </p:nvSpPr>
        <p:spPr>
          <a:xfrm>
            <a:off x="704880" y="1681200"/>
            <a:ext cx="547560" cy="957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computr4"/>
          <p:cNvSpPr/>
          <p:nvPr/>
        </p:nvSpPr>
        <p:spPr>
          <a:xfrm>
            <a:off x="2627280" y="1628640"/>
            <a:ext cx="695520" cy="106200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computr2"/>
          <p:cNvSpPr/>
          <p:nvPr/>
        </p:nvSpPr>
        <p:spPr>
          <a:xfrm>
            <a:off x="7380360" y="1916280"/>
            <a:ext cx="901800" cy="903240"/>
          </a:xfrm>
          <a:prstGeom prst="pie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6" name=""/>
          <p:cNvCxnSpPr>
            <a:stCxn id="113" idx="8"/>
            <a:endCxn id="114" idx="4"/>
          </p:cNvCxnSpPr>
          <p:nvPr/>
        </p:nvCxnSpPr>
        <p:spPr>
          <a:xfrm>
            <a:off x="1266480" y="2160360"/>
            <a:ext cx="1346400" cy="108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59280" y="3645000"/>
            <a:ext cx="4173480" cy="2419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580000" y="2276640"/>
            <a:ext cx="0" cy="1296720"/>
          </a:xfrm>
          <a:prstGeom prst="line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9" name=""/>
          <p:cNvCxnSpPr>
            <a:stCxn id="114" idx="5"/>
            <a:endCxn id="115" idx="10"/>
          </p:cNvCxnSpPr>
          <p:nvPr/>
        </p:nvCxnSpPr>
        <p:spPr>
          <a:xfrm flipV="1">
            <a:off x="3336840" y="2158200"/>
            <a:ext cx="4207680" cy="2520"/>
          </a:xfrm>
          <a:prstGeom prst="straightConnector1">
            <a:avLst/>
          </a:prstGeom>
          <a:ln cap="rnd" w="22320">
            <a:solidFill>
              <a:srgbClr val="00008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46836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Back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28526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Middle-wa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164360" y="29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f436b"/>
                </a:solidFill>
                <a:latin typeface="Stencil"/>
              </a:rPr>
              <a:t>Front-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Thanks for your time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11280" y="2565360"/>
            <a:ext cx="7561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imhotep.gyeyoung.co.kr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3500280"/>
            <a:ext cx="788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Stencil"/>
              </a:rPr>
              <a:t>http://kldp.net/projects/imhotep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bout SV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557360"/>
            <a:ext cx="7705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Scalable Vector Graphic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XML Graphics for Web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2D Graphics in XML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Industr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GIS and Mapp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Web Application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         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- Mobil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View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Edito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Model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  </a:t>
            </a: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SVG Converter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35336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333360"/>
            <a:ext cx="47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4360" y="1773360"/>
            <a:ext cx="7559640" cy="3960720"/>
            <a:chOff x="684360" y="1773360"/>
            <a:chExt cx="7559640" cy="3960720"/>
          </a:xfrm>
        </p:grpSpPr>
        <p:sp>
          <p:nvSpPr>
            <p:cNvPr id="77" name=""/>
            <p:cNvSpPr/>
            <p:nvPr/>
          </p:nvSpPr>
          <p:spPr>
            <a:xfrm>
              <a:off x="6407280" y="4703760"/>
              <a:ext cx="86364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360" y="5302080"/>
              <a:ext cx="158724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Ycadv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5302080"/>
              <a:ext cx="796680" cy="4320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JGood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411280" y="5302080"/>
              <a:ext cx="273708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atik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5302080"/>
              <a:ext cx="934920" cy="397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NetBean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7672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Canva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348000" y="3328920"/>
              <a:ext cx="15112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4105440"/>
              <a:ext cx="489600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Edito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64000" y="4703760"/>
              <a:ext cx="93528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9640" y="4703760"/>
              <a:ext cx="934920" cy="39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eview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4360" y="2730600"/>
              <a:ext cx="259236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Converter (Consol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4360" y="3357720"/>
              <a:ext cx="2519280" cy="183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ranscod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19640" y="2730600"/>
              <a:ext cx="4752720" cy="39672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VG Editor (GUI)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4360" y="1773360"/>
              <a:ext cx="7488000" cy="757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Imhotep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380360" y="4703760"/>
              <a:ext cx="863640" cy="9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ode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Undo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Tool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03640" y="3328920"/>
              <a:ext cx="172908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Dom Tree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877080" y="3328920"/>
              <a:ext cx="1366920" cy="574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roperti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333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Mod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56674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207280" cy="0"/>
          </a:xfrm>
          <a:prstGeom prst="line">
            <a:avLst/>
          </a:prstGeom>
          <a:ln w="25560">
            <a:solidFill>
              <a:srgbClr val="318d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06560"/>
            <a:ext cx="8207280" cy="0"/>
          </a:xfrm>
          <a:prstGeom prst="line">
            <a:avLst/>
          </a:prstGeom>
          <a:ln w="38160">
            <a:solidFill>
              <a:srgbClr val="1e3d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33336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f436b"/>
                </a:solidFill>
                <a:latin typeface="Stencil"/>
              </a:rPr>
              <a:t>Architecture - View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43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李光植</cp:lastModifiedBy>
  <dcterms:modified xsi:type="dcterms:W3CDTF">2005-02-04T03:05:47Z</dcterms:modified>
  <cp:revision>9</cp:revision>
  <dc:subject/>
  <dc:title>PowerPoint Presentation</dc:title>
</cp:coreProperties>
</file>